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790-D5EF-40BD-A0BA-C5FA6F40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01B-EBB6-4535-8847-7BE842E8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37A-B4EC-4A59-9644-109D0AFF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113-1826-40D1-9077-2A1A1DD3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CDB-84B5-49BA-95D8-979E926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762-892C-42DA-85C4-267943C8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CB4-CC8B-4F9F-92F2-CBDCF80D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AC6-3F82-4B3E-85DA-E595F48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A8F-2EC3-4A91-822F-036C5E76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DA4-D304-413E-BD0E-8EB8AEB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E7E-6588-4176-B2AB-04E8429F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B5F-6263-47A1-B5F4-6171B8C7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840D-36B3-4FF5-B73B-162B609BA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e Bré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et L’ Ama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47242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 Brésil a la plus grande population en Amérique du s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 y a plus de 50 universités dans le pay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4038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La géograph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 Brésil est principalement sous les trop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’est surtout les forêts tropicales humides qui occupent tout le nord et les portions centrales du Brés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flipH="1" rot="10800000">
            <a:off x="2940120" y="4327200"/>
            <a:ext cx="2528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é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Les récoltes majeures so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s  graines  de café, Les fruits d'agrumes, la canne à sucre, le riz, le mais, le cacao, le coton, le tabac et les bananes. Le bois est aussi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76720" y="4800600"/>
            <a:ext cx="1782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e gouver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s présidents du Brésil peut être réelu plus d’une fo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s 81 sénateurs sont élus pendant huit ans et les 513 députes sont élus pendant quatre a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32000" y="3962520"/>
            <a:ext cx="20703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 y a des preuves suggérant l'habitation humaine possible au Brésil à plus de 30,000 années passées . Des  lettres ont été  trouve et des objets, y compris les tableaux de caverne, que tous ont interprété à une date d’ au moins 11.000 années pass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57600" y="4724280"/>
            <a:ext cx="18255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capit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capitale du Brésil est Brasilia. Cette ville est devenue la capitale en 1960, succédant ainsi à Rio de Jan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population: 17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ngues: Portugais(officiel), Espagnol, Anglais, França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Religion 70% est Catholique Rom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a moyenne d’ espérance de v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Femme= 67ans, Hommes= 59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 président: Marco Mac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152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Le président Marco Macie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440" y="1828800"/>
            <a:ext cx="2949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environ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 u="sng">
                <a:solidFill>
                  <a:srgbClr val="000000"/>
                </a:solidFill>
                <a:uFillTx/>
                <a:latin typeface="Arial"/>
              </a:rPr>
              <a:t>Situation Géographique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Situé en Amérique du Sud,  à l’est et au nord de l’océan Atlantique, le Brésil à pour voisins,  le Venezuela, la Guyanne, le Suriname et la Guyane Française. A l’ouest, ce sont l‘Argentine, le Paraguay, la Bolivie et le Pérou, au nord-ouest, la Colombie et au sud, l’Uruguay. Seuls le Chili et l’Équateur n'ont pas de frontière commune avec le Brési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a superficie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 Brésil est le cinquième plus vaste pays du m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Voici la rivière de L’Amazo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2490840"/>
            <a:ext cx="3657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rivière de l'Amazone mesure 6280 km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rivière de l'Amazone est la deuxième plus grande rivière du monde. Le Nil en Afrique, est le plus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’Amazone mesure entre six et dix kilomètres de large.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4:18:37Z</dcterms:created>
  <dc:creator>nbdoe</dc:creator>
  <dc:description/>
  <dc:language>en-US</dc:language>
  <cp:lastModifiedBy>nbdoe</cp:lastModifiedBy>
  <dcterms:modified xsi:type="dcterms:W3CDTF">2009-03-12T15:09:16Z</dcterms:modified>
  <cp:revision>8</cp:revision>
  <dc:subject/>
  <dc:title>Le Bresil</dc:title>
</cp:coreProperties>
</file>